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C5FF-A6B8-4116-9B6F-3A7316ED0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9A45-844C-4378-ACBF-33DAE64EB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Advanced Topic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iuseppe Attard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partimento di Informat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ersità di Pi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7570440" y="115920"/>
            <a:ext cx="1133280" cy="1257120"/>
            <a:chOff x="7570440" y="115920"/>
            <a:chExt cx="1133280" cy="1257120"/>
          </a:xfrm>
        </p:grpSpPr>
        <p:pic>
          <p:nvPicPr>
            <p:cNvPr id="93" name="Picture 7" descr="cherubino"/>
            <p:cNvPicPr/>
            <p:nvPr/>
          </p:nvPicPr>
          <p:blipFill>
            <a:blip r:embed="rId1"/>
            <a:stretch/>
          </p:blipFill>
          <p:spPr>
            <a:xfrm>
              <a:off x="7649640" y="115920"/>
              <a:ext cx="93420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8"/>
            <p:cNvSpPr/>
            <p:nvPr/>
          </p:nvSpPr>
          <p:spPr>
            <a:xfrm>
              <a:off x="7570440" y="1141920"/>
              <a:ext cx="113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6699"/>
                  </a:solidFill>
                  <a:latin typeface="Palatino Linotype"/>
                </a:rPr>
                <a:t>Università di Pi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4640" y="249120"/>
            <a:ext cx="8237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gular Value Decomposi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. Osiński, D. Weiss. 2004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ceptual Clustering Using Lingo Algorithm: Evaluation on Open Directory Project Data. http://www.cs.put.poznan.pl/dweiss/site/publications/download/iipwm-osinski-weiss-stefanowski-2004-lingo.pdf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. Osiński, D. Weiss. 2005. A Concept-Driven Algorithm for Clustering Search Results. IEEE Intelligent Systems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dollar.biz.uiowa.edu/~nstreet/01439479.pdf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commender Syste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. Koren. R. Bell. C. Volinski. Matrix Factorization Techniques for recommender syste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2.research.att.com/~volinsky/papers/ieeecomputer.pd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pinion Min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Liu. Sentiment Analisis and Subjectivity. 2010. Handbook of NLP. http://www.cs.uic.edu/~liub/FBS/NLP-handbook-sentiment-analysis.pd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mantic Role Label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ufal.mff.cuni.cz/conll2009-st/task-description.ht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ierarchical Machine Transl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erarch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rase-Based Model for Statistic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chine Trans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David Chia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ww.isi.edu/~chiang/papers/chiang-acl05.pd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cognizing Textual Entailme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nist.gov/tac/2011/RTE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Question Answer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s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aai.org/Magazine/Watson/watson.ph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ist.gov/tac/2008/qa/index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3T19:18:16Z</dcterms:created>
  <dc:creator>Giuseppe Attardi</dc:creator>
  <dc:description/>
  <dc:language>en-US</dc:language>
  <cp:lastModifiedBy>Giuseppe Attardi</cp:lastModifiedBy>
  <dcterms:modified xsi:type="dcterms:W3CDTF">2011-05-03T15:27:10Z</dcterms:modified>
  <cp:revision>735</cp:revision>
  <dc:subject/>
  <dc:title>Categorization</dc:title>
</cp:coreProperties>
</file>